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8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12.png" ContentType="image/png"/>
  <Override PartName="/ppt/media/image5.pct" ContentType="image/x-pict"/>
  <Override PartName="/ppt/media/image13.png" ContentType="image/png"/>
  <Override PartName="/ppt/media/image6.pct" ContentType="image/x-pict"/>
  <Override PartName="/ppt/media/image9.png" ContentType="image/png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BE8A-2B8C-4C5C-A7DA-4AC40B5DB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g the grapes seeds and garden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E2C-3F6B-42F2-A050-7D8B71E7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E5E-CD0A-459B-84A1-EC88E23D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BB8-9277-43F7-AA28-290D330B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74E-F639-4CBC-B1E3-442467CF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188-897F-43D0-A6A5-8A2FE3C7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487-5077-4787-AC0B-820FA971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D39-2900-400C-8310-012E11DD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2E7-C31E-49C5-BC44-74F0EE83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8CC-730C-4733-9C54-A822A23D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2BD-9605-41D5-A377-EA4A8366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9D0-BAA0-4BF3-838E-8537AFDC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26E-AD01-4656-A459-D7A03B05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C305-A929-4D54-A6B7-66548040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image" Target="../media/image8.pct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hyperlink" Target="http://my.nctm.org/eresources/view_article.asp?article_id=6430&amp;page=1" TargetMode="External"/><Relationship Id="rId3" Type="http://schemas.openxmlformats.org/officeDocument/2006/relationships/hyperlink" Target="http://my.nctm.org/eresources/view_article.asp?article_id=6430&amp;page=1" TargetMode="External"/><Relationship Id="rId4" Type="http://schemas.openxmlformats.org/officeDocument/2006/relationships/hyperlink" Target="http://my.nctm.org/eresources/view_article.asp?article_id=6430&amp;page=1" TargetMode="External"/><Relationship Id="rId5" Type="http://schemas.openxmlformats.org/officeDocument/2006/relationships/hyperlink" Target="http://my.nctm.org/eresources/view_article.asp?article_id=6430&amp;page=1" TargetMode="External"/><Relationship Id="rId6" Type="http://schemas.openxmlformats.org/officeDocument/2006/relationships/hyperlink" Target="http://my.nctm.org/eresources/view_article.asp?article_id=6430&amp;page=1" TargetMode="External"/><Relationship Id="rId7" Type="http://schemas.openxmlformats.org/officeDocument/2006/relationships/hyperlink" Target="http://my.nctm.org/eresources/view_article.asp?article_id=6430&amp;page=1" TargetMode="External"/><Relationship Id="rId8" Type="http://schemas.openxmlformats.org/officeDocument/2006/relationships/hyperlink" Target="http://my.nctm.org/eresources/view_article.asp?article_id=6430&amp;page=1" TargetMode="External"/><Relationship Id="rId9" Type="http://schemas.openxmlformats.org/officeDocument/2006/relationships/hyperlink" Target="http://my.nctm.org/eresources/view_article.asp?article_id=6430&amp;page=1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17760" y="1628640"/>
            <a:ext cx="6108480" cy="1270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71880" y="3429000"/>
            <a:ext cx="450036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262080"/>
            <a:ext cx="4000680" cy="1041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36080" y="6035760"/>
            <a:ext cx="749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ON-Math Winter 2003 | Volume 2, Numb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adly, as of 2012, ON-Math is no mo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639720"/>
            <a:ext cx="788364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pts?              Or          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66880" y="1944720"/>
            <a:ext cx="3810240" cy="322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6680" y="1552680"/>
            <a:ext cx="2062080" cy="155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811920" y="2552760"/>
            <a:ext cx="233208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75680" y="3576600"/>
            <a:ext cx="1404720" cy="1878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6040" y="3767040"/>
            <a:ext cx="2032200" cy="173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87320" y="5743440"/>
            <a:ext cx="733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ut which should be introduced first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learns more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h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5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08040" y="6162840"/>
            <a:ext cx="2577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ersek and Kirshner, 200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3560" y="1981080"/>
            <a:ext cx="328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stru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3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0840" y="464832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cedural: memorization and routine application of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0520" y="523080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nceptual: constructing relationships through concrete materials, questioning, communications and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89800">
            <a:off x="1706040" y="1447920"/>
            <a:ext cx="5731200" cy="70344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2 Wins!   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it matter which comes fir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09640" y="3879720"/>
                <a:ext cx="31478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656240" y="3557520"/>
                <a:ext cx="11379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930320" y="259704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numbers vs. Imprope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34080" y="3429000"/>
            <a:ext cx="2495520" cy="1276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4719600"/>
            <a:ext cx="3006720" cy="125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791480" y="5022720"/>
                <a:ext cx="10684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38200" y="3429000"/>
            <a:ext cx="3767040" cy="17589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3429000"/>
            <a:ext cx="4425840" cy="273852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8200" y="3429000"/>
            <a:ext cx="3767040" cy="17683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3429000"/>
            <a:ext cx="4425840" cy="2736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8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s it matter which comes first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cedur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ceptual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447920" y="3344760"/>
                <a:ext cx="186840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¸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759200" y="3557520"/>
                <a:ext cx="93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930320" y="2597040"/>
            <a:ext cx="52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ed numbers vs. Improper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758000" y="5022720"/>
                <a:ext cx="1136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914400" y="3271680"/>
            <a:ext cx="3089160" cy="21956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3429000"/>
            <a:ext cx="4425840" cy="28782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23760" y="3289320"/>
            <a:ext cx="3124440" cy="220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49920" y="3627360"/>
            <a:ext cx="1701720" cy="1327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68880" y="4908600"/>
            <a:ext cx="1562400" cy="1317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11398" t="9890" r="0" b="0"/>
          <a:stretch/>
        </p:blipFill>
        <p:spPr>
          <a:xfrm>
            <a:off x="7950240" y="3768840"/>
            <a:ext cx="939600" cy="833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60840" y="3429000"/>
            <a:ext cx="4425840" cy="2876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7120" y="5467320"/>
            <a:ext cx="39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l, doe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0080" y="1492200"/>
            <a:ext cx="7747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8560" y="6364440"/>
            <a:ext cx="3270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tud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37440" cy="25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dur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weeks later,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weeks later,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conceptu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sson an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weeks later,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400" y="4659480"/>
            <a:ext cx="81374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t  procedural change in scores: -2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ost conceptual change in scores: -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hel’s experien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78080" y="1941480"/>
            <a:ext cx="2787840" cy="2100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86960" y="5917680"/>
            <a:ext cx="756756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my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ct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/eresources/view_article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asp?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article_id=6430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&amp;page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9"/>
          </p:cNvPr>
          <p:cNvSpPr/>
          <p:nvPr/>
        </p:nvSpPr>
        <p:spPr>
          <a:xfrm>
            <a:off x="3898800" y="4392720"/>
            <a:ext cx="1346400" cy="1236600"/>
          </a:xfrm>
          <a:custGeom>
            <a:avLst/>
            <a:gdLst>
              <a:gd name="textAreaLeft" fmla="*/ 79920 w 1346400"/>
              <a:gd name="textAreaRight" fmla="*/ 1266480 w 1346400"/>
              <a:gd name="textAreaTop" fmla="*/ 79920 h 1236600"/>
              <a:gd name="textAreaBottom" fmla="*/ 1156680 h 1236600"/>
            </a:gdLst>
            <a:ahLst/>
            <a:rect l="textAreaLeft" t="textAreaTop" r="textAreaRight" b="textAreaBottom"/>
            <a:pathLst>
              <a:path w="23517" h="21600">
                <a:moveTo>
                  <a:pt x="0" y="0"/>
                </a:moveTo>
                <a:lnTo>
                  <a:pt x="23517" y="0"/>
                </a:lnTo>
                <a:lnTo>
                  <a:pt x="23517" y="21600"/>
                </a:lnTo>
                <a:lnTo>
                  <a:pt x="0" y="21600"/>
                </a:lnTo>
                <a:close/>
              </a:path>
              <a:path fill="lightenLess" w="23517" h="21600">
                <a:moveTo>
                  <a:pt x="0" y="0"/>
                </a:moveTo>
                <a:lnTo>
                  <a:pt x="23517" y="0"/>
                </a:lnTo>
                <a:lnTo>
                  <a:pt x="22117" y="1400"/>
                </a:lnTo>
                <a:lnTo>
                  <a:pt x="1400" y="1400"/>
                </a:lnTo>
                <a:close/>
              </a:path>
              <a:path fill="darken" w="23517" h="21600">
                <a:moveTo>
                  <a:pt x="23517" y="0"/>
                </a:moveTo>
                <a:lnTo>
                  <a:pt x="23517" y="21600"/>
                </a:lnTo>
                <a:lnTo>
                  <a:pt x="22117" y="20200"/>
                </a:lnTo>
                <a:lnTo>
                  <a:pt x="22117" y="1400"/>
                </a:lnTo>
                <a:close/>
              </a:path>
              <a:path fill="darkenLess" w="23517" h="21600">
                <a:moveTo>
                  <a:pt x="23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17" y="20200"/>
                </a:lnTo>
                <a:close/>
              </a:path>
              <a:path fill="lighten" w="23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7120" y="422280"/>
            <a:ext cx="78897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0:24:59Z</dcterms:created>
  <dc:creator>Mark Roddy</dc:creator>
  <dc:description/>
  <dc:language>en-US</dc:language>
  <cp:lastModifiedBy>Mark Roddy User</cp:lastModifiedBy>
  <dcterms:modified xsi:type="dcterms:W3CDTF">2016-03-11T04:05:13Z</dcterms:modified>
  <cp:revision>20</cp:revision>
  <dc:subject/>
  <dc:title>Go to http://my.nctm.org/eresources/ and click “On-Math”</dc:title>
</cp:coreProperties>
</file>